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79CC-F205-4595-A4D5-B75F02A98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96202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600" y="4057920"/>
            <a:ext cx="96202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1EAC-4CAE-47C5-9694-C59E65AE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4694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4080" y="1768320"/>
            <a:ext cx="4694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600" y="4057920"/>
            <a:ext cx="4694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4080" y="4057920"/>
            <a:ext cx="4694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56B9-62B9-4A08-B5D1-5857343F8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3097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7200" y="1768320"/>
            <a:ext cx="3097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0160" y="1768320"/>
            <a:ext cx="3097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600" y="4057920"/>
            <a:ext cx="3097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7200" y="4057920"/>
            <a:ext cx="3097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0160" y="4057920"/>
            <a:ext cx="3097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4A6F-7469-46C8-9A97-19C46CD9A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600" y="1768320"/>
            <a:ext cx="96202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B451-C202-4409-BF52-431FAF2C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96202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08DB-8BC9-4645-A8AD-01783255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46944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4080" y="1768320"/>
            <a:ext cx="46944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7C57-BFDD-4BC7-87A4-989867CC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62FC-1AE3-4645-AF54-E1998717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02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4809-5F3C-4A68-878E-E3AFD790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4694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4080" y="1768320"/>
            <a:ext cx="46944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600" y="4057920"/>
            <a:ext cx="4694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71BF-7563-444F-A4EB-92482648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46944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4080" y="1768320"/>
            <a:ext cx="4694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4080" y="4057920"/>
            <a:ext cx="4694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32B7-4EA0-4001-BBF7-6C3ACE52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600" y="1768320"/>
            <a:ext cx="4694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4080" y="1768320"/>
            <a:ext cx="46944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600" y="4057920"/>
            <a:ext cx="96202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8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6737-5D25-4CEB-8296-4D3A10F2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0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600" y="1768320"/>
            <a:ext cx="96202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888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888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600" y="6886440"/>
            <a:ext cx="2489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6160" y="6886440"/>
            <a:ext cx="33876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6200" y="6886440"/>
            <a:ext cx="24890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7E3FCA-4498-42FE-BE7B-6058D688A46E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27640" y="5400720"/>
            <a:ext cx="8856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Document ressource 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Nomenclature des composants de la carte microbit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287280"/>
            <a:ext cx="4597200" cy="5230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6200" y="5565600"/>
            <a:ext cx="4735440" cy="1706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03280" y="5502240"/>
            <a:ext cx="4560840" cy="1643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26160" y="325440"/>
            <a:ext cx="4535280" cy="4297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2-17T09:08:08Z</dcterms:created>
  <dc:creator/>
  <dc:description/>
  <dc:language>en-US</dc:language>
  <cp:lastModifiedBy/>
  <dcterms:modified xsi:type="dcterms:W3CDTF">2024-02-18T20:46:45Z</dcterms:modified>
  <cp:revision>1</cp:revision>
  <dc:subject/>
  <dc:title/>
</cp:coreProperties>
</file>